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2F4E-C5EF-4F83-8D8E-BBE38E159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9CCF-A483-445F-B231-BC3BAFF8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7924-A466-411D-BB45-94CFBC7F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43A1-385F-4A0E-8807-8F899F2D5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09AE-327A-47E0-9EA1-93326C2C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F9C3-E344-4BB7-9398-03112FCF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A586-89EE-4F91-B2AC-A12AC24C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B04E-7602-490F-B539-B25B9EC7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E79E-111C-49F0-8BA9-43882FFE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ABB2-305C-4403-9D0C-6B35C36D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C45E-0027-4884-98DC-11C7E443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D777-4FDA-423F-B560-AE5A98D7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6CA1-8A70-4626-A1FC-32E24DFC01DC}" type="slidenum">
              <a:rPr b="0" lang="ar-L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356000" cy="100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0" spc="-1" strike="noStrike" u="sng">
                <a:solidFill>
                  <a:srgbClr val="000000"/>
                </a:solidFill>
                <a:uFillTx/>
                <a:latin typeface="Arial"/>
                <a:cs typeface="AF_Diwani"/>
              </a:rPr>
              <a:t>نشيد المناولة: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Tahoma"/>
                <a:cs typeface="Tahoma"/>
              </a:rPr>
              <a:t>ربي أنا ورقة بيضاء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63640" y="0"/>
            <a:ext cx="6156360" cy="136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ربّي أنا ورقةٌ بيضا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ea typeface="Akhbar MT"/>
              </a:rPr>
              <a:t> أُرسُم عليه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كلَّ ما تشا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5661000"/>
            <a:ext cx="88930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6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إنّي الشراعُ وأنتَ الريح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589720"/>
            <a:ext cx="88930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6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هيّا ارحلْ بي حيثما تشاءْ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08000" y="115920"/>
            <a:ext cx="6156360" cy="136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ربّي أنا ورقةٌ بيضا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ea typeface="Akhbar MT"/>
              </a:rPr>
              <a:t> أُرسُم عليه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كلَّ ما تشا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0920" y="414360"/>
            <a:ext cx="5292720" cy="10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8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cc00"/>
                </a:solidFill>
                <a:latin typeface="Arial"/>
                <a:cs typeface="Akhbar MT"/>
              </a:rPr>
              <a:t>إنّي اليراع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cc00"/>
                </a:solidFill>
                <a:latin typeface="Arial"/>
                <a:cs typeface="Akhbar MT"/>
              </a:rPr>
              <a:t>وأنتَ الفكر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cc00"/>
                </a:solidFill>
                <a:latin typeface="Arial"/>
                <a:cs typeface="Akhbar MT"/>
              </a:rPr>
              <a:t>هيّا اكتُبْ ب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cc00"/>
                </a:solidFill>
                <a:latin typeface="Arial"/>
                <a:ea typeface="Akhbar MT"/>
              </a:rPr>
              <a:t> كيفما تشا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08000" y="115920"/>
            <a:ext cx="6156360" cy="136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ربّي أنا ورقةٌ بيضا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ea typeface="Akhbar MT"/>
              </a:rPr>
              <a:t> أُرسُم عليه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كلَّ ما تشا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1080" y="587520"/>
            <a:ext cx="8962920" cy="78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نّي القيثارُ وأنتَ اللحن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7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7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7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هيّا اعزفْ بي قدرَ ما تشا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31640" y="115920"/>
            <a:ext cx="6156360" cy="13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4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ربّي أنا ورقةٌ بيضاء أُرسُم عليه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4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كلَّ ما تشا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20:21:46Z</dcterms:created>
  <dc:creator>Charbel Azar</dc:creator>
  <dc:description/>
  <dc:language>en-US</dc:language>
  <cp:lastModifiedBy>Charbel Azar</cp:lastModifiedBy>
  <dcterms:modified xsi:type="dcterms:W3CDTF">2002-07-05T13:17:24Z</dcterms:modified>
  <cp:revision>7</cp:revision>
  <dc:subject/>
  <dc:title>Slide 1</dc:title>
</cp:coreProperties>
</file>